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154-8B61-48C6-8585-1C725840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3D5-1E8B-4216-901F-01B615CD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CEA-F318-42C5-9707-E8DF9736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BB0-C22C-41D5-8958-4446BD1E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F37-C8CD-4631-B063-9D8D37F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467-AAE6-4F4E-B10A-FB21995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FEC-DE4B-41F2-8AAE-94387412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744-6AAA-4B66-9B63-F70674A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BBD-C151-4D59-989A-CF927B5C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BCD-7921-47DE-9EED-36AADB6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EDC-1CF9-4D6B-B722-9DAACEBE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62E-9AB5-4435-A244-2CE6019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D60-215A-4E44-8EA2-AAD8C4EAE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G_01" descr=""/>
          <p:cNvPicPr/>
          <p:nvPr/>
        </p:nvPicPr>
        <p:blipFill>
          <a:blip r:embed="rId1"/>
          <a:stretch/>
        </p:blipFill>
        <p:spPr>
          <a:xfrm>
            <a:off x="3124080" y="914400"/>
            <a:ext cx="2667240" cy="208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429000"/>
            <a:ext cx="6629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O CONSUNTIV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i sintetica delle entrate, delle spese e dei risultati  della gestion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a corren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2286000"/>
          <a:ext cx="821052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210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4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L’equilibrio di parte capit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09480" y="1905120"/>
          <a:ext cx="8077320" cy="38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07732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4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Entrate in conto capit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600200"/>
          <a:ext cx="80769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4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e in conto capit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676520"/>
          <a:ext cx="838224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4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e in conto capit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1523880"/>
          <a:ext cx="82296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4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e in conto capit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1295280"/>
          <a:ext cx="831852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31852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olo 1"/>
          <p:cNvSpPr/>
          <p:nvPr/>
        </p:nvSpPr>
        <p:spPr>
          <a:xfrm>
            <a:off x="457200" y="228600"/>
            <a:ext cx="8229600" cy="1066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Quadro riassuntivo della gestione di compete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1828800"/>
          <a:ext cx="807696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07696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olo 1"/>
          <p:cNvSpPr/>
          <p:nvPr/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90720" y="1600200"/>
          <a:ext cx="749592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4959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alibri"/>
              </a:rPr>
              <a:t>Composizione dell’avanzo di compete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olo 1"/>
          <p:cNvSpPr/>
          <p:nvPr/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alibri"/>
              </a:rPr>
              <a:t>Composizione dell’avanzo di compete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447920"/>
          <a:ext cx="7162920" cy="40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16292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066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alibri"/>
              </a:rPr>
              <a:t>Risultato della gestione finanzi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1752480"/>
          <a:ext cx="735336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3533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257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Gli aspetti salienti del conto consun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066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alibri"/>
              </a:rPr>
              <a:t>Avanzo della gestione finanzi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98108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066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alibri"/>
              </a:rPr>
              <a:t>Avanzo della gestione finanzi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76520"/>
          <a:ext cx="7496280" cy="40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49628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Il rispetto del Patto di Stabil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295280"/>
          <a:ext cx="784872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8487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58200" cy="831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La pressione fiscale nel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523880"/>
          <a:ext cx="84582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458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58200" cy="831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La pressione fiscale nel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28640" y="1328760"/>
          <a:ext cx="588672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328760"/>
                    <a:ext cx="588672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8480520" cy="103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La pressione fiscale nel 2013 – Aliquote dei tributi principa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1600200"/>
          <a:ext cx="820116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0116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8480520" cy="103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La pressione fiscale nel 2013 – Aliquote dei tributi principa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523880"/>
          <a:ext cx="781056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810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58200" cy="831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Principali indicatori finanziari ed economici gener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295280"/>
          <a:ext cx="8381880" cy="519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38188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58200" cy="831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Parametri condizioni strutturalmente deficita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1295280"/>
          <a:ext cx="820080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20080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Riepilogo gener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338120"/>
          <a:ext cx="853416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38120"/>
                    <a:ext cx="853416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4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L’equilibrio di parte corren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573200"/>
          <a:ext cx="769608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3200"/>
                    <a:ext cx="769608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Entrate corren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143000"/>
          <a:ext cx="84582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a corren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76520"/>
          <a:ext cx="815328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1532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a corren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1752480"/>
          <a:ext cx="7619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619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a corren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371600"/>
          <a:ext cx="83440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44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Calibri"/>
              </a:rPr>
              <a:t>Spesa corren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1752480"/>
          <a:ext cx="8381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381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2:36:46Z</dcterms:created>
  <dc:creator>PIERO</dc:creator>
  <dc:description/>
  <dc:language>en-US</dc:language>
  <cp:lastModifiedBy>CANTU_MT</cp:lastModifiedBy>
  <dcterms:modified xsi:type="dcterms:W3CDTF">2014-08-12T13:58:19Z</dcterms:modified>
  <cp:revision>168</cp:revision>
  <dc:subject/>
  <dc:title>COMUNE DI LEGNANO     CONSUNTIVO  2013     RELAZIONE AL C.C.</dc:title>
</cp:coreProperties>
</file>